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mmburger.wav" ContentType="audio/x-wav"/>
  <Override PartName="/ppt/media/image7.png" ContentType="image/png"/>
  <Override PartName="/ppt/media/mmburger%5B1%5D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0AA-32C3-4DAB-9BE4-0E24DF56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D06-B64B-444B-9718-D3AF5A45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40E-7E5B-4D4C-AE95-CAD0A20F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870-6D9F-4B45-9637-E2326DC0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66DF-F9D2-4F69-ADE4-779B3470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CD57-43FE-4B70-8688-9990BEEF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DC7A-2B5A-4EE5-9990-6A67FD42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F998-62B6-42DD-A2E3-952CBBBA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1611-EA3D-4A77-A37D-225E7637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2E9F-F09B-4DB2-AFA9-4D8A5107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A4F7-FE00-4F67-8F30-0B75CE6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63D-7913-4465-B5AE-FC6456DC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10A9-F7E7-4892-AB32-7091250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7CD6-5AC8-49FE-8BB8-0B93F74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9265-C1E9-47DE-BC99-7D7655E9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35D8-C565-48BA-B54D-F683FBC4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FF7B-1732-4F15-B476-F8597C2D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2A6-376A-40FC-929C-5F76E549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186-5602-4D2F-AD67-1B32FED2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322-8ADF-4A7C-9089-F9AA7652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0E4-2C62-45FD-B4F3-AD6C82C2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FBF-63DC-481B-AB24-B39EA625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A94-9DD9-434A-8AA3-457E7F35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03B-0C8F-4FAE-8BC7-63A1FAE9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AFAF-9058-472E-A76F-67017C174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0B4C-D3A5-4708-B42A-95E3B6B25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mmburger.wav"/><Relationship Id="rId3" Type="http://schemas.openxmlformats.org/officeDocument/2006/relationships/audio" Target="../media/mmburger%5B1%5D.wav"/><Relationship Id="rId4" Type="http://schemas.openxmlformats.org/officeDocument/2006/relationships/audio" Target="../media/mmburger%5B1%5D.wav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80773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How To Do</a:t>
            </a:r>
            <a:br>
              <a:rPr sz="9600"/>
            </a:b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an AH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03848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3701880"/>
            <a:ext cx="1676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00680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1523880"/>
            <a:ext cx="81532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with a “concluding phr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tate your thesis statement </a:t>
            </a:r>
            <a:r>
              <a:rPr b="1" lang="en-US" sz="2600" spc="-1" strike="noStrike" u="sng">
                <a:solidFill>
                  <a:srgbClr val="ff1d1d"/>
                </a:solidFill>
                <a:uFillTx/>
                <a:latin typeface="Comic Sans MS"/>
              </a:rPr>
              <a:t>a bit differentl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ut your essay answer in a larger historical persp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114800"/>
            <a:ext cx="655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some trend/movement/idea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Beginning of some trend/movement/id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one &amp; beginning of an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o NOT end on the note that this is the reason we are where we are toda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Concluding”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Put It All Together, And . . .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1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80000"/>
            </a:outerShdw>
          </a:effectLst>
        </p:spPr>
      </p:pic>
      <p:sp>
        <p:nvSpPr>
          <p:cNvPr id="117" name=""/>
          <p:cNvSpPr/>
          <p:nvPr/>
        </p:nvSpPr>
        <p:spPr>
          <a:xfrm>
            <a:off x="228600" y="380880"/>
            <a:ext cx="8763120" cy="94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600"/>
                </a:solidFill>
                <a:latin typeface="Hot Pizza"/>
              </a:rPr>
              <a:t>Ummmmm,  Burger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58672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I Mean,  </a:t>
            </a:r>
            <a:r>
              <a:rPr b="0" lang="en-US" sz="4600" spc="-1" strike="noStrike" u="sng">
                <a:solidFill>
                  <a:srgbClr val="008600"/>
                </a:solidFill>
                <a:uFillTx/>
                <a:latin typeface="Hot Pizza"/>
              </a:rPr>
              <a:t>A Perfect Essay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990720"/>
            <a:ext cx="883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Create a rough draft in outline form using this forma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971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kip a line from your intro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dentify the “theme”/thesis of this firs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“mea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 </a:t>
            </a:r>
            <a:r>
              <a:rPr b="1" lang="en-US" sz="2200" spc="-1" strike="noStrike">
                <a:solidFill>
                  <a:srgbClr val="3333cc"/>
                </a:solidFill>
                <a:latin typeface="Comic Sans MS"/>
              </a:rPr>
              <a:t>[underline or highlight it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ndent bullets listing all facts/doc. info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nd other </a:t>
            </a:r>
            <a:r>
              <a:rPr b="1" lang="en-US" sz="2200" spc="-1" strike="noStrike">
                <a:solidFill>
                  <a:srgbClr val="3333cc"/>
                </a:solidFill>
                <a:latin typeface="Comic Sans MS"/>
              </a:rPr>
              <a:t>“o.i.”s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that you will need in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en done with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skip a line and do the same for the other “mea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600200"/>
            <a:ext cx="7086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introductory paragrap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Create a loose outline of your “meat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 in this mann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72880"/>
            <a:ext cx="8763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600"/>
                </a:solidFill>
                <a:latin typeface="Hot Pizza"/>
              </a:rPr>
              <a:t>DO-NOW In Clas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867280"/>
            <a:ext cx="8229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kip a line after your last “meat” ¶ and write you concluding ¶ out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1219320"/>
            <a:ext cx="82296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introductory paragraph in full,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underlining your thesis statement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ifferent info. from the same document (Doc-E)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H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2860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Outline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539720"/>
            <a:ext cx="8001000" cy="44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3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 from another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information from the same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concluding paragraph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2552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Outline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2057400" cy="1770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8222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Now, Go  Home &amp; Write Your  Essay  And</a:t>
            </a:r>
            <a:br>
              <a:rPr sz="5000"/>
            </a:br>
            <a:r>
              <a:rPr b="0" lang="en-US" sz="5000" spc="-1" strike="noStrike" u="sng">
                <a:solidFill>
                  <a:srgbClr val="008600"/>
                </a:solidFill>
                <a:uFillTx/>
                <a:latin typeface="Hot Pizza"/>
              </a:rPr>
              <a:t>Dazzle Me</a:t>
            </a:r>
            <a:br>
              <a:rPr sz="5000"/>
            </a:br>
            <a:r>
              <a:rPr b="0" lang="en-US" sz="5000" spc="-1" strike="noStrike" u="sng">
                <a:solidFill>
                  <a:srgbClr val="008600"/>
                </a:solidFill>
                <a:uFillTx/>
                <a:latin typeface="Hot Pizza"/>
              </a:rPr>
              <a:t>With Your Brilliance</a:t>
            </a: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990720"/>
            <a:ext cx="6324480" cy="534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YOU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CA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DO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IT!!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501480"/>
            <a:ext cx="8077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A “Dazzling” D.B.Q.</a:t>
            </a:r>
            <a:br>
              <a:rPr sz="4800"/>
            </a:b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Is Like a Tasty Hambur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67160" y="228600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1143000" y="190008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33720" y="466092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op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-6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0880"/>
            <a:ext cx="80769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1600200"/>
            <a:ext cx="76201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ME &amp; PLA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eate a clear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SIS STATEM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underline or highlight it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ude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B-TOP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r categories you will discuss to support your thesis state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cus on the question at hand—do NOT begin with a “flowery” sen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014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4662360"/>
            <a:ext cx="3352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“laundry list!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19520" y="4280040"/>
            <a:ext cx="586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asty” p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-12 sentences+ per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800360"/>
            <a:ext cx="3809880" cy="2009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1455840"/>
            <a:ext cx="80773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your sub-topic or category in the firs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most of the documents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ng in supportive outside information. 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This is critic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*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.i.’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= “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tsid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form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were these documents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08120"/>
            <a:ext cx="83818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ttributi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is this p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y might they be signific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point of view (POV) of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ow reliable and accurate is the sour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tone or intent of the document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other information does this document call to mind?  Use all available c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09588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Remember, docs. can be used in a variety of way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04920"/>
            <a:ext cx="85345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8600"/>
                </a:solidFill>
                <a:latin typeface="Hot Pizza"/>
              </a:rPr>
              <a:t>Questions to Ask Yourself About the Docu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057400"/>
            <a:ext cx="8382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omas Paine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in his pamphlet, </a:t>
            </a:r>
            <a:r>
              <a:rPr b="1" i="1" lang="en-US" sz="2700" spc="-1" strike="noStrike">
                <a:solidFill>
                  <a:srgbClr val="fa0000"/>
                </a:solidFill>
                <a:latin typeface="Comic Sans MS"/>
              </a:rPr>
              <a:t>Common Sense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,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said:  “…………………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Joe Smith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a mid-Western delegate to the Republican convention in 1912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agreed with…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19</a:t>
            </a:r>
            <a:r>
              <a:rPr b="1" lang="en-US" sz="2700" spc="-1" strike="noStrike" baseline="30000">
                <a:solidFill>
                  <a:srgbClr val="fa0000"/>
                </a:solidFill>
                <a:latin typeface="Comic Sans MS"/>
              </a:rPr>
              <a:t>c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 historian, Frederick Jackson Turner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felt that ………………….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(Doc. 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79132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3333cc"/>
                </a:solidFill>
                <a:uFillTx/>
                <a:latin typeface="Comic Sans MS"/>
              </a:rPr>
              <a:t>NEVER</a:t>
            </a:r>
            <a:r>
              <a:rPr b="1" i="1" lang="en-US" sz="3400" spc="-1" strike="noStrike">
                <a:solidFill>
                  <a:srgbClr val="3333cc"/>
                </a:solidFill>
                <a:latin typeface="Comic Sans MS"/>
              </a:rPr>
              <a:t> begin with: In Document 3,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57040"/>
            <a:ext cx="876312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How to Reference a Document in Your Essa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10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14600" y="4019400"/>
            <a:ext cx="6172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Bottom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holds it all together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-4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22906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380880"/>
            <a:ext cx="82296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The Concluding </a:t>
            </a:r>
            <a:br>
              <a:rPr sz="5000"/>
            </a:b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Paragrap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Ms. Susan M. Pojer</dc:creator>
  <dc:description/>
  <dc:language>en-US</dc:language>
  <cp:lastModifiedBy>56020</cp:lastModifiedBy>
  <dcterms:modified xsi:type="dcterms:W3CDTF">2010-10-26T13:07:36Z</dcterms:modified>
  <cp:revision>108</cp:revision>
  <dc:subject/>
  <dc:title>How To Do an AHAP DNQ</dc:title>
</cp:coreProperties>
</file>